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87BD-6914-4619-ACCB-5E0129D5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9A27-B67D-4EDA-A0A7-32453FBB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E95F-17C4-4809-B799-8FD15930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D25E-489C-4189-B5D4-6E8C15EF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A71B-AE0F-40EA-ABB4-FDD27EEC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E863-F686-48AB-86E6-4F97B093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879C-BD33-40CE-8A41-0A20298A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EA60-81A7-41BF-9BEB-F99234DA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055E-E5CA-44DA-BBC1-C1D58F41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847A-768E-4627-9883-2CA7A822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3296-0605-4115-94B1-501A955D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FB13-D8FF-4C2B-9B5D-217BF9F7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A161-C44C-4B53-9742-9C2D5C89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829A-7C56-4430-9931-2B5C6F75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915D-46C3-474A-8D5B-7C5BE954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AD39-5601-4AA5-9119-AC3C97BD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7B93-8C25-4747-9A25-31BF0354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FAA6-C8AF-42A4-AC35-0AC3BB03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151E-5ECF-4DC0-8E4B-78ED911D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1B03-8B48-4F94-99C0-26055E4B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B57F-AA54-4DE6-9033-6BDADFA5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7A99-42B8-4D38-8110-DEC7150C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F15A-E629-42D1-97B6-C81693AD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FE0D-5ECE-473D-9A1D-21AC41CF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E759-A82A-4792-9543-74BE88E0F2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A689-35DE-4516-A63C-0C4D5F2288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IR, WE WOULD SEE  JESUS”</a:t>
            </a:r>
            <a:br>
              <a:rPr sz="44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FE OF CHRIST, PART 1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95280" y="3885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9, LESS0N 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6:22 - 7:1; MARK 7:24-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70-7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1022-9AFA-49AC-B711-66F141F3A5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Heart of M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first asks them about honoring father and mo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, what defiles a man?  What follows is answer to hand-washing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risees are “blind leaders of the blin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17B1-C88F-428B-AE29-D3756B845C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SECOND RETIREMENT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nd His disciples leave Israel proper and go into vicinity of Tyre and Sid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entile woman with a demon-possessed young daughter came to Jes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ays “I was not sent except to the lost sheep of the house of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0298-DF21-4D93-9D91-0E9D83CD54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2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Gentile Woman Needs Help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man worships and says “Lord, help me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nswers “It is not good to take the children’s bread and cast it to the little  dog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man replies “True, Lord, yet the little dogs eat the crumbs which fall from the master’s tab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537E-EAC5-4D9A-86CF-24EE37BD12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reat Fait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aid “O woman great is your faith let it be to you as you desir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mon left her daugh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is exchange, Jesus was not being cruel nor unfeeling or insulting, He was making the point that His mission was among the Jew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man seemed to underst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40A0-6B73-4C00-ADFD-5AB35726E2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1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Life of Chri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4800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s of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ning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Galilean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 of Ret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ing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st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r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l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3733920"/>
            <a:ext cx="236232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are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15000" y="4038480"/>
            <a:ext cx="91440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4A08-0129-4EB1-82BB-1A5652E38F2B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364240" cy="6002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20" name=""/>
          <p:cNvSpPr/>
          <p:nvPr/>
        </p:nvSpPr>
        <p:spPr>
          <a:xfrm flipH="1" flipV="1">
            <a:off x="6553080" y="1447920"/>
            <a:ext cx="1447920" cy="76176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33920" y="762120"/>
            <a:ext cx="1447560" cy="457200"/>
          </a:xfrm>
          <a:prstGeom prst="line">
            <a:avLst/>
          </a:prstGeom>
          <a:ln w="76320">
            <a:solidFill>
              <a:srgbClr val="008a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962520" y="1676520"/>
            <a:ext cx="1295280" cy="3808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876920" y="2819520"/>
            <a:ext cx="533160" cy="838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A381-06C6-49D9-9AD8-3EE7B69BE3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First Retireme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xt day after walking on the water, Jesus not found in Bethsai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find Jesus at Caperna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responds to the people by saying “You hunt for me not because of the signs but because you ate of the loaves…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tells them to labor for the food that gives eternal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CEAC-4659-4025-BBA4-9E4961357E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Is The Work of God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soon become antagonis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sk “What must we do to do the works of God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nswer to their question, Jesus tells the multitude the work God would have them do is t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lie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the One He had 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DA5B-B5B7-46D7-9B66-78BD3CD99E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read of Lif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sking for a sign, the people ignored the miracle they had witnessed, the feeding of a vast multit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speak of physical bread (manna), Jesus speaks of spiritual bread saying “I am the bread of life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4788-9E52-4B24-86B6-A52D89904F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read of Lif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claims to be bread from heaven, the Jews begin to murmur against Him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answers “The bread which I shall give is my fles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ho eats my flesh and drinks my blood has eternal lif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D390-2AF6-4749-9008-C275E2BE29AC}" type="slidenum">
              <a:t>7</a:t>
            </a:fld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“Hard” Say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followers said “This is a hard saying. Who can accept it?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is point, many of Jesus followers stopped walking with Hi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sked the twelve “Will you also go away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ter replied “Lord to whom shall we go? You have the words of eternal lif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13C0-171E-4B5A-BC43-90C680E2A9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wish Traditions??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sition to Jesus gr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did not want to walk in Judea because there the Jews sought to kill Hi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re had been plots to kill Him at Galilee als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ribes and Pharisees came from Jerusalem asking about their tradition of washing hands before e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1EAE-E505-4FE0-9050-519451DEAB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5T04:42:06Z</dcterms:created>
  <dc:creator>billy lauderdale</dc:creator>
  <dc:description/>
  <dc:language>en-US</dc:language>
  <cp:lastModifiedBy>Frank D Vines</cp:lastModifiedBy>
  <dcterms:modified xsi:type="dcterms:W3CDTF">2006-09-17T13:40:30Z</dcterms:modified>
  <cp:revision>52</cp:revision>
  <dc:subject/>
  <dc:title>LIFE OF CHRIST</dc:title>
</cp:coreProperties>
</file>